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40.png" ContentType="image/png"/>
  <Override PartName="/ppt/media/image30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7.jpeg" ContentType="image/jpeg"/>
  <Override PartName="/ppt/media/image38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7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7A1-3898-4F70-BF43-B0AF6A23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4BC-CFA2-42C5-A050-9C980770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58E-E200-46BD-BDAC-1CC02FB0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94E-8ED3-4277-BDF3-14C41983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D7FE-BB39-4BC6-ACF5-F1DFF08F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D7E9-94B4-42DF-A9FA-DFD689BE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A33A-86D6-4232-A79B-260C0ECF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1E31-F8C8-4B39-962C-2A0EFED7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A9A5-AEF5-4356-AFF6-47F2AB3D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C15B-A23A-43B6-A90D-9C46359B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9489-32E0-42B7-AB71-FA2C2665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BEC-BB46-4244-8E44-4F9FD030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7C19-01E3-4F29-A60D-6C1458FD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F7CB-D67C-4963-A002-D8C33B26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B9F4-4C35-4FD4-AFFF-BFB1A503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7DE9-5E9D-4C8D-A2AA-B48D8108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D1F4-E40A-4454-A983-E3E3EB2D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33C-D065-40BA-982A-5D079D35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679-4E3B-4B33-9B2B-C4482EE3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F2B0-2789-422D-A643-7FD50004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901-E64F-4D0C-B8DE-C37FE8E9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0AE-1E47-4281-9A56-FC94E9C4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1B4-3406-4A23-B20C-76249026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711-3FCC-4444-854F-F19E6120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048040" cy="6858000"/>
            <a:chOff x="0" y="0"/>
            <a:chExt cx="2048040" cy="6858000"/>
          </a:xfrm>
        </p:grpSpPr>
        <p:sp>
          <p:nvSpPr>
            <p:cNvPr id="1" name="Rectangle 3"/>
            <p:cNvSpPr/>
            <p:nvPr/>
          </p:nvSpPr>
          <p:spPr>
            <a:xfrm>
              <a:off x="1666800" y="0"/>
              <a:ext cx="381240" cy="6856560"/>
            </a:xfrm>
            <a:prstGeom prst="rect">
              <a:avLst/>
            </a:prstGeom>
            <a:gradFill rotWithShape="0">
              <a:gsLst>
                <a:gs pos="0">
                  <a:srgbClr val="990066"/>
                </a:gs>
                <a:gs pos="100000">
                  <a:srgbClr val="4e003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2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6635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70B5-C5FB-4C31-90DA-FCBB91758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2048040" cy="6858000"/>
            <a:chOff x="0" y="0"/>
            <a:chExt cx="2048040" cy="6858000"/>
          </a:xfrm>
        </p:grpSpPr>
        <p:sp>
          <p:nvSpPr>
            <p:cNvPr id="45" name="Rectangle 3"/>
            <p:cNvSpPr/>
            <p:nvPr/>
          </p:nvSpPr>
          <p:spPr>
            <a:xfrm>
              <a:off x="1666800" y="0"/>
              <a:ext cx="381240" cy="6856560"/>
            </a:xfrm>
            <a:prstGeom prst="rect">
              <a:avLst/>
            </a:prstGeom>
            <a:gradFill rotWithShape="0">
              <a:gsLst>
                <a:gs pos="0">
                  <a:srgbClr val="990066"/>
                </a:gs>
                <a:gs pos="100000">
                  <a:srgbClr val="4e003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46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6635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9C7C-662E-4773-8858-5BDF2304D75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Birthday%20Basket%20for%20Tia.htm" TargetMode="External"/><Relationship Id="rId2" Type="http://schemas.openxmlformats.org/officeDocument/2006/relationships/hyperlink" Target="http://www.scottsboro.org/~flewis/SF%20Reading%20Street/spellmaster/Bad%20Dog,%20Dodger/jigword2.html" TargetMode="External"/><Relationship Id="rId3" Type="http://schemas.openxmlformats.org/officeDocument/2006/relationships/hyperlink" Target="http://www.scottsboro.org/~flewis/SF%20Reading%20Street/spellmaster/Birthday%20Basket%20for%20Tia/matchword2.html" TargetMode="External"/><Relationship Id="rId4" Type="http://schemas.openxmlformats.org/officeDocument/2006/relationships/hyperlink" Target="http://www.scottsboro.org/~flewis/SF%20Reading%20Street/spellmaster/Birthday%20Basket%20for%20Tia/speedword2.html" TargetMode="External"/><Relationship Id="rId5" Type="http://schemas.openxmlformats.org/officeDocument/2006/relationships/hyperlink" Target="http://www.scottsboro.org/~flewis/SF%20Reading%20Street/spellmaster/Birthday%20Basket%20for%20Tia/wordsearch2.html" TargetMode="External"/><Relationship Id="rId6" Type="http://schemas.openxmlformats.org/officeDocument/2006/relationships/hyperlink" Target="http://www.scottsboro.org/~flewis/SF%20Reading%20Street/spellmaster/Birthday%20Basket%20for%20Tia/wordweb.html" TargetMode="External"/><Relationship Id="rId7" Type="http://schemas.openxmlformats.org/officeDocument/2006/relationships/hyperlink" Target="http://www.spellingcity.com/index.php?option=com_spellcity&amp;task=viewList&amp;listId=825749" TargetMode="External"/><Relationship Id="rId8" Type="http://schemas.openxmlformats.org/officeDocument/2006/relationships/hyperlink" Target="http://www.spellingcity.com/index.php?option=com_spellcity&amp;task=viewList&amp;listId=825743" TargetMode="External"/><Relationship Id="rId9" Type="http://schemas.openxmlformats.org/officeDocument/2006/relationships/hyperlink" Target="http://www.scottsboro.org/~flewis/SF%20Reading%20Street/spellmaster/Birthday%20Basket%20for%20Tia%20Spelling%20Words/speedword2.html" TargetMode="External"/><Relationship Id="rId10" Type="http://schemas.openxmlformats.org/officeDocument/2006/relationships/hyperlink" Target="http://www.scottsboro.org/~flewis/SF%20Reading%20Street/spellmaster/Birthday%20Basket%20for%20Tia%20Spelling%20Words/wordweb.html" TargetMode="External"/><Relationship Id="rId11" Type="http://schemas.openxmlformats.org/officeDocument/2006/relationships/hyperlink" Target="http://www.quia.com/jw/211300.html" TargetMode="External"/><Relationship Id="rId12" Type="http://schemas.openxmlformats.org/officeDocument/2006/relationships/hyperlink" Target="http://www.spellingcity.com/index.php?option=com_spellcity&amp;Itemid=122&amp;task=viewList&amp;listId=354285" TargetMode="External"/><Relationship Id="rId13" Type="http://schemas.openxmlformats.org/officeDocument/2006/relationships/hyperlink" Target="http://www.spellingcity.com/index.php?option=com_spellcity&amp;task=viewList&amp;listId=825760" TargetMode="External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5.xml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81.xml"/><Relationship Id="rId2" Type="http://schemas.openxmlformats.org/officeDocument/2006/relationships/image" Target="../media/image6.png"/><Relationship Id="rId3" Type="http://schemas.openxmlformats.org/officeDocument/2006/relationships/hyperlink" Target="http://images.google.com/imgres?imgurl=http://www.robertopiecollection.com/Application/images/wicker-baskets/garden-vegetable-basket-lg.jpg&amp;imgrefurl=http://www.robertopiecollection.com/Application/Products/Hampers/Hamper-baskets-GB.asp&amp;usg=__GSsybQ9-BD3Qxu0ZY6eayNorsHA=&amp;h=800&amp;w=903&amp;sz=154&amp;hl=EN&amp;start=1&amp;tbnid=yJwZ3BluHanUhM:&amp;tbnh=130&amp;tbnw=147&amp;prev=/images?q=basket&amp;gbv=2&amp;hl=E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germes-online.com/direct/dbimage/50317117/Brown_Willow_Laundry_Basket__S_2_.jpg&amp;imgrefurl=http://www.germes-online.com/catalog/26/34/852/70489/sell_brown_willow_laundry_basket_s_2_.html&amp;usg=__7ooWJVnxUByxM3vTRAA9DZQ5jVo=&amp;h=360&amp;w=360&amp;sz=30&amp;hl=EN&amp;start=2&amp;tbnid=Gj_9IBjJrL5SaM:&amp;tbnh=121&amp;tbnw=121&amp;prev=/images?q=basket&amp;gbv=2&amp;hl=EN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http://images.oneofakindantiques.com/2469_hand_woven_native_american_basket_1.jpg&amp;imgrefurl=http://www.oneofakindantiques.com/catalog/2469_early_19th_century_hand_woven_native_american_indian_basket_1.htm&amp;usg=__lsvMciFRHeWSBODmFlYOyvuG1fY=&amp;h=341&amp;w=640&amp;sz=67&amp;hl=EN&amp;start=13&amp;tbnid=lF1jCvwUgFSKFM:&amp;tbnh=73&amp;tbnw=137&amp;prev=/images?q=basket&amp;gbv=2&amp;hl=EN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com/imgres?imgurl=http://www.parks.ca.gov/pages/486/images/bird_design_woven_basket.jpg&amp;imgrefurl=http://www.parks.ca.gov/default.asp?page_id=21310&amp;usg=__GoQzBKTLOHULZsA8cTdq9MGSz4E=&amp;h=336&amp;w=417&amp;sz=81&amp;hl=EN&amp;start=14&amp;tbnid=V4NGVi5DOR0HiM:&amp;tbnh=101&amp;tbnw=125&amp;prev=/images?q=basket&amp;gbv=2&amp;hl=EN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images.google.com/imgres?imgurl=http://www.ares-online.com/catalog/pics/Wire_Shopping_Basket.jpg&amp;imgrefurl=http://www.ares-online.com/catalog/advertising/1/&amp;usg=__AGi2Cws8N1BHkjcsuHBAMM7_NoA=&amp;h=359&amp;w=359&amp;sz=33&amp;hl=EN&amp;start=20&amp;tbnid=8htHZeOjp83wEM:&amp;tbnh=121&amp;tbnw=121&amp;prev=/images?q=basket&amp;gbv=2&amp;hl=EN" TargetMode="External"/><Relationship Id="rId12" Type="http://schemas.openxmlformats.org/officeDocument/2006/relationships/image" Target="../media/image11.jpeg"/><Relationship Id="rId13" Type="http://schemas.openxmlformats.org/officeDocument/2006/relationships/hyperlink" Target="http://images.google.com/imgres?imgurl=http://www.germes-online.com/direct/dbimage/50353472/Plastic_Shopping_Basket.jpg&amp;imgrefurl=http://www.germes-online.com/catalog/63/67/1175/287476/sell_shopping_carts_with_2_baskets.html&amp;usg=__006y4TuH3JhdUzRpgCjzz4gdAmA=&amp;h=360&amp;w=360&amp;sz=31&amp;hl=EN&amp;start=35&amp;tbnid=DybtEcRohR2iQM:&amp;tbnh=121&amp;tbnw=121&amp;prev=/images?q=basket&amp;gbv=2&amp;ndsp=20&amp;hl=EN&amp;sa=N&amp;start=20" TargetMode="External"/><Relationship Id="rId14" Type="http://schemas.openxmlformats.org/officeDocument/2006/relationships/image" Target="../media/image12.jpeg"/><Relationship Id="rId15" Type="http://schemas.openxmlformats.org/officeDocument/2006/relationships/hyperlink" Target="http://images.google.com/imgres?imgurl=http://www.unipeckusa.com/images/suet-to-go-suet-basket-with-bird.jpg&amp;imgrefurl=http://www.unipeckusa.com/unipeck-suet-to-go-suet-basket.php&amp;usg=__m-qe4GjPbTYg-90EzrZphitYAmo=&amp;h=1193&amp;w=1200&amp;sz=130&amp;hl=EN&amp;start=36&amp;tbnid=bstlUJD7gEAaIM:&amp;tbnh=149&amp;tbnw=150&amp;prev=/images?q=basket&amp;gbv=2&amp;ndsp=20&amp;hl=EN&amp;sa=N&amp;start=20" TargetMode="External"/><Relationship Id="rId16" Type="http://schemas.openxmlformats.org/officeDocument/2006/relationships/image" Target="../media/image13.jpeg"/><Relationship Id="rId17" Type="http://schemas.openxmlformats.org/officeDocument/2006/relationships/hyperlink" Target="http://images.google.com/imgres?imgurl=http://www.flowers2perfection.com/yahoo_site_admin/assets/images/Cocktail-Party-Gift-Basket-Premium.3143007.jpg&amp;imgrefurl=http://www.flowers2perfection.com/products&amp;usg=__YCmUDmGcxuBcj7ZYCzF8uD2vp48=&amp;h=300&amp;w=300&amp;sz=43&amp;hl=EN&amp;start=38&amp;tbnid=qvLVa9LMklE-BM:&amp;tbnh=116&amp;tbnw=116&amp;prev=/images?q=basket&amp;gbv=2&amp;ndsp=20&amp;hl=EN&amp;sa=N&amp;start=20" TargetMode="External"/><Relationship Id="rId18" Type="http://schemas.openxmlformats.org/officeDocument/2006/relationships/image" Target="../media/image14.jpeg"/><Relationship Id="rId19" Type="http://schemas.openxmlformats.org/officeDocument/2006/relationships/hyperlink" Target="http://images.google.com/imgres?imgurl=http://www.bowwowgiftbasket.com/files/1484562/uploaded/Bite%2520Meez%2520Dog%2520Gift%2520Basket.jpg&amp;imgrefurl=http://www.bowwowgiftbasket.com/&amp;usg=__YKl1kkXg7T0m_dlo2qqclSpUvX4=&amp;h=396&amp;w=396&amp;sz=28&amp;hl=EN&amp;start=32&amp;tbnid=ghN-yc0mlUaluM:&amp;tbnh=124&amp;tbnw=124&amp;prev=/images?q=basket&amp;gbv=2&amp;ndsp=20&amp;hl=EN&amp;sa=N&amp;start=20" TargetMode="External"/><Relationship Id="rId20" Type="http://schemas.openxmlformats.org/officeDocument/2006/relationships/image" Target="../media/image15.jpeg"/><Relationship Id="rId21" Type="http://schemas.openxmlformats.org/officeDocument/2006/relationships/hyperlink" Target="http://images.google.com/imgres?imgurl=http://www.primitiveways.com/Images2/basket1.jpg&amp;imgrefurl=http://www.primitiveways.com/bare-handed_basket.html&amp;usg=__5l2HM_WN4-XgULLEyCjNVE8KExg=&amp;h=324&amp;w=432&amp;sz=40&amp;hl=EN&amp;start=31&amp;tbnid=ELUmwFl9aX0HdM:&amp;tbnh=95&amp;tbnw=126&amp;prev=/images?q=basket&amp;gbv=2&amp;ndsp=20&amp;hl=EN&amp;sa=N&amp;start=20" TargetMode="External"/><Relationship Id="rId22" Type="http://schemas.openxmlformats.org/officeDocument/2006/relationships/image" Target="../media/image16.jpeg"/><Relationship Id="rId23" Type="http://schemas.openxmlformats.org/officeDocument/2006/relationships/hyperlink" Target="http://images.google.com/imgres?imgurl=http://www.germes-online.com/direct/dbimage/50198720/Maize_Laundry_Basket.jpg&amp;imgrefurl=http://www.germes-online.com/catalog/26/34/852/laundry_bags_and_baskets.html&amp;usg=__QdmTm_tyshUgPoS6RWyX_JX_Zzo=&amp;h=360&amp;w=360&amp;sz=28&amp;hl=EN&amp;start=25&amp;tbnid=klnHZLoetQlbKM:&amp;tbnh=121&amp;tbnw=121&amp;prev=/images?q=basket&amp;gbv=2&amp;ndsp=20&amp;hl=EN&amp;sa=N&amp;start=20" TargetMode="External"/><Relationship Id="rId24" Type="http://schemas.openxmlformats.org/officeDocument/2006/relationships/image" Target="../media/image17.jpeg"/><Relationship Id="rId25" Type="http://schemas.openxmlformats.org/officeDocument/2006/relationships/hyperlink" Target="http://images.google.com/imgres?imgurl=http://akwesasneculturalcenter.org/wp-content/uploads/2008/01/denise-jocks-thistle-basket.jpg&amp;imgrefurl=http://akwesasneculturalcenter.org/page/3/&amp;usg=__qILr-uIQBdw_yILK4AhhOmzLDqE=&amp;h=538&amp;w=482&amp;sz=52&amp;hl=EN&amp;start=23&amp;tbnid=PFYXuH-jn6zK4M:&amp;tbnh=132&amp;tbnw=118&amp;prev=/images?q=basket&amp;gbv=2&amp;ndsp=20&amp;hl=EN&amp;sa=N&amp;start=20" TargetMode="External"/><Relationship Id="rId26" Type="http://schemas.openxmlformats.org/officeDocument/2006/relationships/image" Target="../media/image18.jpeg"/><Relationship Id="rId27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5.xml"/><Relationship Id="rId2" Type="http://schemas.openxmlformats.org/officeDocument/2006/relationships/image" Target="../media/image6.png"/><Relationship Id="rId3" Type="http://schemas.openxmlformats.org/officeDocument/2006/relationships/hyperlink" Target="http://images.google.com/imgres?imgurl=http://brandlicanblog.files.wordpress.com/2009/01/pt-piggy-bank-pink-2.jpg&amp;imgrefurl=http://ndnblog.org/node?page=3&amp;usg=__YEFqNbClbBoajnqNOaKxhgyonhA=&amp;h=400&amp;w=400&amp;sz=67&amp;hl=EN&amp;start=27&amp;tbnid=QvPHcnBBpohSSM:&amp;tbnh=124&amp;tbnw=124&amp;prev=/images?q=bank&amp;gbv=2&amp;ndsp=20&amp;hl=EN&amp;sa=N&amp;start=20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images.google.com/imgres?imgurl=http://www.nyc-architecture.com/MID/Bank_of_america_tower_sept_2007.jpg&amp;imgrefurl=http://www.nyc-architecture.com/MID/MID157.htm&amp;usg=__lz2OyMLeJ-J3qYE1VXYY2DK556s=&amp;h=500&amp;w=333&amp;sz=56&amp;hl=EN&amp;start=47&amp;tbnid=gnrBBmc9zUvoCM:&amp;tbnh=130&amp;tbnw=87&amp;prev=/images?q=bank&amp;gbv=2&amp;ndsp=20&amp;hl=EN&amp;sa=N&amp;start=40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images.google.com/imgres?imgurl=http://hbmortgageoracle.files.wordpress.com/2009/02/bank.jpg&amp;imgrefurl=http://hbmortgageoracle.wordpress.com/2009/02/11/bank-ceo%25E2%2580%2599s-called-to-capital-hill/&amp;usg=__mvEMJYyGtWSNx2NmNUQGyc1O9uw=&amp;h=352&amp;w=500&amp;sz=47&amp;hl=EN&amp;start=56&amp;tbnid=W8TRZmlksxtR3M:&amp;tbnh=92&amp;tbnw=130&amp;prev=/images?q=bank&amp;gbv=2&amp;ndsp=20&amp;hl=EN&amp;sa=N&amp;start=40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images.encarta.msn.com/xrefmedia/sharemed/targets/images/pho/000a5/000a5038.jpg&amp;imgrefurl=http://encarta.msn.com/media_701508985/bank_vault.html&amp;usg=__xBGIzTtHeUfNOCAZoW36NO5xtPQ=&amp;h=347&amp;w=520&amp;sz=34&amp;hl=EN&amp;start=7&amp;tbnid=RJ1oHR0GwCnwrM:&amp;tbnh=87&amp;tbnw=131&amp;prev=/images?q=bank+vault&amp;gbv=2&amp;hl=EN" TargetMode="External"/><Relationship Id="rId10" Type="http://schemas.openxmlformats.org/officeDocument/2006/relationships/image" Target="../media/image22.jpeg"/><Relationship Id="rId11" Type="http://schemas.openxmlformats.org/officeDocument/2006/relationships/hyperlink" Target="http://images.google.com/imgres?imgurl=http://www.swiss-banking-antiques.com/images/swiss-federal-bank-zurich-600.jpg&amp;imgrefurl=http://www.swiss-banking-antiques.com/e/shadow-boxes/information.html&amp;usg=__SqGILyE_c6TYz4SXSuoGdOW-m9Q=&amp;h=401&amp;w=600&amp;sz=129&amp;hl=EN&amp;start=20&amp;tbnid=OgBndUCUxc3ZLM:&amp;tbnh=90&amp;tbnw=135&amp;prev=/images?q=bank+vault&amp;gbv=2&amp;hl=EN" TargetMode="External"/><Relationship Id="rId12" Type="http://schemas.openxmlformats.org/officeDocument/2006/relationships/image" Target="../media/image23.jpeg"/><Relationship Id="rId13" Type="http://schemas.openxmlformats.org/officeDocument/2006/relationships/hyperlink" Target="http://images.google.com/imgres?imgurl=http://www.safeandvaultstore.com/blog/wp-content/uploads/2008/07/bridgeman-safe-deposit-boxes-cutout.jpg&amp;imgrefurl=http://www.safeandvaultstore.com/blog/safe-deposit-box/deposit-storage/&amp;usg=__5Mzq13eJnEq1b8QErbKKmXg9UDA=&amp;h=728&amp;w=834&amp;sz=324&amp;hl=EN&amp;start=4&amp;tbnid=UCMbYOZmJ-qLzM:&amp;tbnh=126&amp;tbnw=144&amp;prev=/images?q=safety+deposit+boxes&amp;gbv=2&amp;hl=EN" TargetMode="External"/><Relationship Id="rId14" Type="http://schemas.openxmlformats.org/officeDocument/2006/relationships/image" Target="../media/image24.jpeg"/><Relationship Id="rId15" Type="http://schemas.openxmlformats.org/officeDocument/2006/relationships/hyperlink" Target="http://images.google.com/imgres?imgurl=http://www.geograph.org.uk/photos/02/56/025624_e89c5be2.jpg&amp;imgrefurl=http://www.geograph.org.uk/photo/25624&amp;usg=__GuWdCLWZxzz8nUdrNi6_JTYhWf4=&amp;h=480&amp;w=640&amp;sz=90&amp;hl=EN&amp;start=3&amp;tbnid=DZ6vlseYAApkmM:&amp;tbnh=103&amp;tbnw=137&amp;prev=/images?q=river+banks&amp;gbv=2&amp;hl=EN" TargetMode="External"/><Relationship Id="rId16" Type="http://schemas.openxmlformats.org/officeDocument/2006/relationships/image" Target="../media/image25.jpeg"/><Relationship Id="rId17" Type="http://schemas.openxmlformats.org/officeDocument/2006/relationships/hyperlink" Target="http://images.google.com/imgres?imgurl=http://cache.virtualtourist.com/1700261-The_River_Banks_of_Lake_St_Lucia-Lake_Saint_Lucia.jpg&amp;imgrefurl=http://members.virtualtourist.com/m/66766/21d384/&amp;usg=__Ub5FDA9TkKHrxx6pkroi8SxCyhk=&amp;h=420&amp;w=560&amp;sz=52&amp;hl=EN&amp;start=6&amp;tbnid=tvAwEc3VHoBUtM:&amp;tbnh=100&amp;tbnw=133&amp;prev=/images?q=river+banks&amp;gbv=2&amp;hl=EN" TargetMode="External"/><Relationship Id="rId18" Type="http://schemas.openxmlformats.org/officeDocument/2006/relationships/image" Target="../media/image26.jpeg"/><Relationship Id="rId19" Type="http://schemas.openxmlformats.org/officeDocument/2006/relationships/hyperlink" Target="http://images.google.com/imgres?imgurl=http://www.expedition360.com/australia_lessons_environmental/mitchell_river_banks.jpg&amp;imgrefurl=http://www.expedition360.com/australia_lessons_environmental/2001/08/&amp;usg=__UlPp_kTYa_z1aNbVaEqt9Q9zvhU=&amp;h=356&amp;w=475&amp;sz=48&amp;hl=EN&amp;start=11&amp;tbnid=2UvIOQfUuWKuxM:&amp;tbnh=97&amp;tbnw=129&amp;prev=/images?q=river+banks&amp;gbv=2&amp;hl=EN" TargetMode="External"/><Relationship Id="rId20" Type="http://schemas.openxmlformats.org/officeDocument/2006/relationships/image" Target="../media/image27.jpeg"/><Relationship Id="rId2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hyperlink" Target="http://images.google.com/imgres?imgurl=http://www.ics.uci.edu/~eppstein/pix/t7bd/WizardHatPinata1-m.jpg&amp;imgrefurl=http://www.ics.uci.edu/~eppstein/pix/t7bd/WizardHatPinata1.html&amp;usg=__8-z8jRfKsq8fDc14hI25r2rDmtA=&amp;h=560&amp;w=560&amp;sz=94&amp;hl=EN&amp;start=4&amp;tbnid=Ut10rgqTy67mTM:&amp;tbnh=133&amp;tbnw=133&amp;prev=/images?q=pinata&amp;gbv=2&amp;hl=EN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images.google.com/imgres?imgurl=http://www.bbspot.com/Images/News_Features/2003/06/pinata.jpg&amp;imgrefurl=http://www.bbspot.com/News/2003/06/pinata.html&amp;usg=__LnmCob6alnIJ0VjUsfBgd_h-I6g=&amp;h=400&amp;w=292&amp;sz=49&amp;hl=EN&amp;start=9&amp;tbnid=XvaxLrJskhjOrM:&amp;tbnh=124&amp;tbnw=91&amp;prev=/images?q=pinata&amp;gbv=2&amp;hl=EN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images.google.com/imgres?imgurl=http://upload.wikimedia.org/wikipedia/commons/thumb/6/66/PI&#209;ATA.jpg/800px-PI&#209;ATA.jpg&amp;imgrefurl=http://teachingownership.blogspot.com/2007/11/pinata-model-of-learning.html&amp;usg=__L8IgE0_hzllaVhb15Q_i7Xy4KoA=&amp;h=600&amp;w=800&amp;sz=90&amp;hl=EN&amp;start=54&amp;tbnid=metck2lFnqszlM:&amp;tbnh=107&amp;tbnw=143&amp;prev=/images?q=pinata&amp;gbv=2&amp;ndsp=20&amp;hl=EN&amp;sa=N&amp;start=40" TargetMode="External"/><Relationship Id="rId7" Type="http://schemas.openxmlformats.org/officeDocument/2006/relationships/image" Target="../media/image30.jpeg"/><Relationship Id="rId8" Type="http://schemas.openxmlformats.org/officeDocument/2006/relationships/hyperlink" Target="http://images.google.com/imgres?imgurl=http://www.ransackery.com/wp-content/uploads/2006/05/scary-pinata2.jpg&amp;imgrefurl=http://www.ransackery.com/2006/05&amp;usg=__xqCgusFD6i1udcONGbwTKVYeHUg=&amp;h=310&amp;w=300&amp;sz=12&amp;hl=EN&amp;start=59&amp;tbnid=0Hgf5BGJAbbeoM:&amp;tbnh=117&amp;tbnw=113&amp;prev=/images?q=pinata&amp;gbv=2&amp;ndsp=20&amp;hl=EN&amp;sa=N&amp;start=40" TargetMode="External"/><Relationship Id="rId9" Type="http://schemas.openxmlformats.org/officeDocument/2006/relationships/image" Target="../media/image31.jpeg"/><Relationship Id="rId10" Type="http://schemas.openxmlformats.org/officeDocument/2006/relationships/hyperlink" Target="http://images.google.com/imgres?imgurl=http://www.losanjealous.com/wp-content/uploads/2008/05/pinata15.jpg&amp;imgrefurl=http://www.losanjealous.com/2008/05/12/an-afternoon-at-the-piata-district/pinata15/&amp;usg=__8k-cjTsBMro8RdZXRaOnriz1SN8=&amp;h=432&amp;w=576&amp;sz=196&amp;hl=EN&amp;start=68&amp;tbnid=TwvWppG3JxUuDM:&amp;tbnh=101&amp;tbnw=134&amp;prev=/images?q=pinata&amp;gbv=2&amp;ndsp=20&amp;hl=EN&amp;sa=N&amp;start=60" TargetMode="External"/><Relationship Id="rId11" Type="http://schemas.openxmlformats.org/officeDocument/2006/relationships/image" Target="../media/image32.jpeg"/><Relationship Id="rId12" Type="http://schemas.openxmlformats.org/officeDocument/2006/relationships/hyperlink" Target="http://images.google.com/imgres?imgurl=http://static.howstuffworks.com/gif/pinatas-4.jpg&amp;imgrefurl=http://home.howstuffworks.com/pinatas2.htm&amp;usg=__M8yBVQweqwtZNVnEsSfZL4crFNU=&amp;h=390&amp;w=400&amp;sz=41&amp;hl=EN&amp;start=65&amp;tbnid=ttJJO_e-BAkNXM:&amp;tbnh=121&amp;tbnw=124&amp;prev=/images?q=pinata&amp;gbv=2&amp;ndsp=20&amp;hl=EN&amp;sa=N&amp;start=60" TargetMode="External"/><Relationship Id="rId13" Type="http://schemas.openxmlformats.org/officeDocument/2006/relationships/image" Target="../media/image33.jpeg"/><Relationship Id="rId14" Type="http://schemas.openxmlformats.org/officeDocument/2006/relationships/hyperlink" Target="http://images.google.com/imgres?imgurl=http://i.ehow.com/images/GlobalPhoto/Articles/2110186/ghostpinata-main_Full.jpg&amp;imgrefurl=http://www.ehow.com/how_2110186_ghost-pinata.html&amp;usg=__0FK_uPTp--9Ne95DSv5uYoPoDsI=&amp;h=600&amp;w=550&amp;sz=35&amp;hl=EN&amp;start=66&amp;tbnid=mu5ptubXsdmlVM:&amp;tbnh=135&amp;tbnw=124&amp;prev=/images?q=pinata&amp;gbv=2&amp;ndsp=20&amp;hl=EN&amp;sa=N&amp;start=60" TargetMode="External"/><Relationship Id="rId15" Type="http://schemas.openxmlformats.org/officeDocument/2006/relationships/image" Target="../media/image34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7.jpeg"/><Relationship Id="rId19" Type="http://schemas.openxmlformats.org/officeDocument/2006/relationships/image" Target="../media/image38.jpeg"/><Relationship Id="rId20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53.xml"/><Relationship Id="rId3" Type="http://schemas.openxmlformats.org/officeDocument/2006/relationships/slide" Target="slide95.xml"/><Relationship Id="rId4" Type="http://schemas.openxmlformats.org/officeDocument/2006/relationships/slide" Target="slide136.xml"/><Relationship Id="rId5" Type="http://schemas.openxmlformats.org/officeDocument/2006/relationships/slide" Target="slide154.xml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172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Why are family celebrations special?</a:t>
            </a:r>
            <a:br>
              <a:rPr sz="4000"/>
            </a:br>
            <a:r>
              <a:rPr b="1" lang="en-US" sz="1400" spc="-1" strike="noStrike">
                <a:solidFill>
                  <a:srgbClr val="00b0f0"/>
                </a:solidFill>
                <a:latin typeface="Verdana"/>
              </a:rPr>
              <a:t>Click to listen to the story.</a:t>
            </a:r>
            <a:r>
              <a:rPr b="0" lang="en-US" sz="14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716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0" name="Picture 37" descr="Birthday Basket for Ti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08200" y="2271600"/>
            <a:ext cx="3659400" cy="35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Monday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09680" y="1981080"/>
          <a:ext cx="6477120" cy="409104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40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day you will read about a birthday.  One friend had the freedom to come early to help set up a game. The mother and father helped too.  Why are family celebrations special?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snapsho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676520" y="9140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nap - shot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napsho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is a simple picture taken with a camer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I took a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napsho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of my birthday ca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It was difficult to take good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napshot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from the moving ca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676520" y="129492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ri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You can read this word because you know how to read base words and e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You can cover the endings, read the base word, and then blend the base word and ending to read the whole wor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52120" y="1371600"/>
            <a:ext cx="72392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member that –</a:t>
            </a:r>
            <a:r>
              <a:rPr b="1" lang="en-US" sz="3200" spc="-1" strike="noStrike">
                <a:solidFill>
                  <a:srgbClr val="ff27ba"/>
                </a:solidFill>
                <a:latin typeface="Verdana"/>
                <a:ea typeface="Arial"/>
              </a:rPr>
              <a:t>ed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dded to a base word to show that something has happened in the pa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ometimes the spelling of the base word chang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ometimes the final consonant is doubled before adding an end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Monday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09680" y="1981080"/>
          <a:ext cx="6477120" cy="409104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40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day you will read about a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birthday</a:t>
                      </a: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.  One friend had the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freedom</a:t>
                      </a: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to come early to help set up a game. The mother and father helped too.  Why are family celebrations special?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sna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sna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sna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sna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sna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sna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3276720" y="762120"/>
          <a:ext cx="4495680" cy="586728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8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rese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u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ke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ollect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nk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avorit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nat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inetieth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i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21337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yllables </a:t>
            </a:r>
            <a:r>
              <a:rPr b="0" i="1" lang="en-US" sz="3200" spc="-1" strike="noStrike">
                <a:solidFill>
                  <a:srgbClr val="ffffcc"/>
                </a:solidFill>
                <a:latin typeface="Verdana"/>
              </a:rPr>
              <a:t>–tion, -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Draw Conclus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ummari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Using Comm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a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prese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a toy you give your friend for her birthday or a book you check out of the libra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a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prese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a toy you give your friend for her birthday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or a book you check out of the library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your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au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your mother’s sister or your mother’s mothe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a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prese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a toy you give your friend for her birthday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or a book you check out of the library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your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au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your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mother’s sister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or your mother’s mothe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a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baske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something you eat at a birthday party or something you can carry things i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a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prese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a toy you give your friend for her birthday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or a book you check out of the library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your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au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your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mother’s sister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or your mother’s mothe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a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baske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something you eat at a birthday party or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something you can carry things i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someone who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collect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something—a girl who picks up everyone’s papers or a boy who loses his book?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someone who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collect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something—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girl who picks up everyone’s paper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or a boy who loses his book?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a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bank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a kind of cookie or a place to store your mone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someone who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collect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something—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girl who picks up everyone’s paper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or a boy who loses his book?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a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bank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a kind of cookie or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a place to store your money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your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favorit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shirt—the shirt you didn’t want to get or the shirt you wear all the tim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someone who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collect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something—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girl who picks up everyone’s paper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or a boy who loses his book?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a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bank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a kind of cookie or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a place to store your money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your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favorit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shirt—the shirt you didn’t want to get or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the shirt you wear all the tim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2438280" y="1371600"/>
          <a:ext cx="5943600" cy="467532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         fix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ion          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ection          n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ture            fe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cture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furni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ction  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dven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ution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tui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Words from Other Languag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In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</a:rPr>
              <a:t>A Birthday Basket for Tia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there were many words written in Spanis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e knew they were in Spanish because the print was different; the words were italiciz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 first Spanish words were </a:t>
            </a:r>
            <a:r>
              <a:rPr b="0" i="1" lang="en-US" sz="3200" spc="-1" strike="noStrike">
                <a:solidFill>
                  <a:srgbClr val="ffffcc"/>
                </a:solidFill>
                <a:latin typeface="Verdana"/>
              </a:rPr>
              <a:t>Noventa anos!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which means Ninety years old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3623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cc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Words from Other Languag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Look in your story to see what these words mea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s-MX" sz="3200" spc="-1" strike="noStrike">
                <a:solidFill>
                  <a:srgbClr val="00b050"/>
                </a:solidFill>
                <a:latin typeface="Verdana"/>
              </a:rPr>
              <a:t>bizcochos</a:t>
            </a:r>
            <a:r>
              <a:rPr b="0" lang="es-MX" sz="32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27ba"/>
                </a:solidFill>
                <a:latin typeface="Verdana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Verdana"/>
              </a:rPr>
              <a:t>sugary cook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s-MX" sz="3200" spc="-1" strike="noStrike">
                <a:solidFill>
                  <a:srgbClr val="00b050"/>
                </a:solidFill>
                <a:latin typeface="Verdana"/>
              </a:rPr>
              <a:t>Que pas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Verdana"/>
              </a:rPr>
              <a:t>What is i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s-MX" sz="3200" spc="-1" strike="noStrike">
                <a:solidFill>
                  <a:srgbClr val="00b050"/>
                </a:solidFill>
                <a:latin typeface="Verdana"/>
              </a:rPr>
              <a:t>feliz cumplean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Verdana"/>
              </a:rPr>
              <a:t>Happy Birth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676160" y="0"/>
            <a:ext cx="74674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aunt sue cullects do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Verdana"/>
              </a:rPr>
              <a:t>Aunt Sue collects do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is that your faverite baske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Verdana"/>
              </a:rPr>
              <a:t>Is that your favorite basket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5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Times New Roman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Comma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are used in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addresse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, between a city and a st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in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date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, between the day and yea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after the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greeting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closing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in a let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to separate three or more things in a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lis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April 18 2007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Verdana"/>
              </a:rPr>
              <a:t>April 18, 2007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Greenwood Californ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Verdana"/>
              </a:rPr>
              <a:t>Greenwood,  Californ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June 2 200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Verdana"/>
              </a:rPr>
              <a:t>June  2, 200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Draw Conclus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Appropriate Phra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omorrow we will listen to poems about special occas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5438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Wednesday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3623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rite about a special birthday gift</a:t>
                      </a: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739152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Thursday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286000" y="251460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day we will read about family birthday traditions. When is your birthday? Does your family have special birthday traditions?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739152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Thursday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286000" y="251460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day we will read about family birthday traditions.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hen is your birthday?</a:t>
                      </a: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Does your family have special birthday traditions?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Today we will learn about: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yllables –tion, -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Appropriate phra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Use comm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2971800" y="1066680"/>
          <a:ext cx="4648320" cy="5321520"/>
        </p:xfrm>
        <a:graphic>
          <a:graphicData uri="http://schemas.openxmlformats.org/drawingml/2006/table">
            <a:tbl>
              <a:tblPr/>
              <a:tblGrid>
                <a:gridCol w="4648320"/>
              </a:tblGrid>
              <a:tr h="53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mazing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elebratio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ustom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raditio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nspec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ngl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rillia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napsho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celebr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520" y="9140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el – e – bra -tion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elebra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can be a party or other activity in which people might eat, play music, and have a good time together to show happiness about a special day or when something good happe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We always have a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elebra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for our birthday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There was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elebra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when my brother graduated from colle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38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Verdana"/>
                <a:ea typeface="Verdana"/>
              </a:rPr>
              <a:t>Poetry Selection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3276720" y="762120"/>
          <a:ext cx="4495680" cy="586728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8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rese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u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ke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ollect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nk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avorit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nat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inetieth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i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904760" y="1523520"/>
            <a:ext cx="7010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oday we’re going to the nature section of the sho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I don’t know whatever happened to my creature pic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I’ll finally get to hear the lecture about sculp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04760" y="1523520"/>
            <a:ext cx="7010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omorrow we’ll see the action motion picture I’ve been waiting to se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y’ll make a mixture with the fish we’ve caugh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I can’t believe the commotion at the st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438280" y="1371600"/>
          <a:ext cx="5943600" cy="467532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         fix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ion          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ection          n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ture            fe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cture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furni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ction  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dven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ution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tui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3352680" y="1828800"/>
          <a:ext cx="3733920" cy="393228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o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he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ith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know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3200400" y="1143000"/>
          <a:ext cx="4191120" cy="5284800"/>
        </p:xfrm>
        <a:graphic>
          <a:graphicData uri="http://schemas.openxmlformats.org/drawingml/2006/table">
            <a:tbl>
              <a:tblPr/>
              <a:tblGrid>
                <a:gridCol w="4191120"/>
              </a:tblGrid>
              <a:tr h="531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High Frequency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eliev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ugh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inally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day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morrow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atever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Student Pages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Student Pages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754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my aunt gave me a presin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Verdana"/>
              </a:rPr>
              <a:t>My aunt gave me a presen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i gave hir my piggy bank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Verdana"/>
              </a:rPr>
              <a:t>I gave her my piggy bank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0066"/>
                </a:solidFill>
                <a:latin typeface="Times New Roman"/>
              </a:rPr>
              <a:t>	</a:t>
            </a:r>
            <a:endParaRPr b="0" lang="en-US" sz="45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custo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520" y="9140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us – tom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ustom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is something that people always do or have done for a long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It is our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ustom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to drink warm milk at nigh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We have a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ustom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of walking around the block after dinn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Using 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04760" y="114300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Comma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are used in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addresse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 Commas should be placed between the names of cities and stat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in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date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after the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greeting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closing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in a let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to separate three or more things in a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lis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Using 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 opened a DVD a book a game and a toy on my birth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I opened a DVD, a book, a game, and a toy on my birth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ara Ally Desi Sierra Madison and Nikki came to my par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Kara, Ally, Desi, Sierra, Madison, and Nikki came to my par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We ate chicken strips apples cupcakes and ice crea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We ate chicken strips, apples, cupcakes, and ice crea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Make Connections:  Text to Sel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e read about birthday celebrations around the world.  Tomorrow we will hear about another special birthday celebr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73152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 </a:t>
            </a:r>
            <a:br>
              <a:rPr sz="4000"/>
            </a:b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Thursday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228600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rite about your favorite birthday.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73152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Friday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981080" y="2133720"/>
          <a:ext cx="6705720" cy="3981240"/>
        </p:xfrm>
        <a:graphic>
          <a:graphicData uri="http://schemas.openxmlformats.org/drawingml/2006/table">
            <a:tbl>
              <a:tblPr/>
              <a:tblGrid>
                <a:gridCol w="6705720"/>
              </a:tblGrid>
              <a:tr h="39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his week we read about</a:t>
                      </a:r>
                      <a:br>
                        <a:rPr sz="3600"/>
                      </a:br>
                      <a:r>
                        <a:rPr b="1" i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irthday traditions and customs. Celebrations create lasting memories. Why are family celebrations special?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Today we will learn about: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yllables </a:t>
            </a:r>
            <a:r>
              <a:rPr b="0" i="1" lang="en-US" sz="3200" spc="-1" strike="noStrike">
                <a:solidFill>
                  <a:srgbClr val="ffffcc"/>
                </a:solidFill>
                <a:latin typeface="Verdana"/>
              </a:rPr>
              <a:t>–tion, -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Online Directo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971800" y="1066680"/>
          <a:ext cx="4648320" cy="5321520"/>
        </p:xfrm>
        <a:graphic>
          <a:graphicData uri="http://schemas.openxmlformats.org/drawingml/2006/table">
            <a:tbl>
              <a:tblPr/>
              <a:tblGrid>
                <a:gridCol w="4648320"/>
              </a:tblGrid>
              <a:tr h="53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mazing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elebratio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ustom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raditio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nspec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ngl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rillia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napsho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200400" y="1143000"/>
          <a:ext cx="4191120" cy="5284800"/>
        </p:xfrm>
        <a:graphic>
          <a:graphicData uri="http://schemas.openxmlformats.org/drawingml/2006/table">
            <a:tbl>
              <a:tblPr/>
              <a:tblGrid>
                <a:gridCol w="4191120"/>
              </a:tblGrid>
              <a:tr h="531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High Frequency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eliev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ugh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inally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day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morrow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atever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2438280" y="1371600"/>
          <a:ext cx="5943600" cy="467532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         fix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ion          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ection          n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ture            fe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cture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furni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ction  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dven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ution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tui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Syllables </a:t>
            </a:r>
            <a:r>
              <a:rPr b="1" i="1" lang="en-US" sz="4400" spc="-1" strike="noStrike">
                <a:solidFill>
                  <a:srgbClr val="ffcc00"/>
                </a:solidFill>
                <a:latin typeface="Verdana"/>
              </a:rPr>
              <a:t>–tion, -t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981080" y="1980720"/>
            <a:ext cx="6934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Use caution when you set the sculpture beside the furni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A vulture is a creature that is sometimes in mo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re was a lot of action at the celebration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e show lots of affection in our cul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tradi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160" y="91404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ra – di – tion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radi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is a custom or belief that is handed down from generation to generation. For example, children get their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radition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from parents who got it from the grandpar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Our family has a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radi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of singing around the piano on holiday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It is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radi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to eat turkey on Thanksgiving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3352680" y="1828800"/>
          <a:ext cx="3733920" cy="393228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o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he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ith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know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276720" y="762120"/>
          <a:ext cx="4495680" cy="586728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8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rese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u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ke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ollect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nk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avorit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nat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inetieth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i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 Words </a:t>
            </a:r>
            <a:br>
              <a:rPr sz="2400"/>
            </a:br>
            <a:r>
              <a:rPr b="0" lang="en-US" sz="2400" spc="-1" strike="noStrike">
                <a:solidFill>
                  <a:srgbClr val="ff99cc"/>
                </a:solidFill>
                <a:latin typeface="Verdana"/>
              </a:rPr>
              <a:t>present, favorite, aunt, bank, collects, basket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752120" y="175212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ia is the Spanish word for 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Tia is the Spanish word for au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You can keep money in a 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You can keep money in a ba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 one you like best is your 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The one you like best is your favori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 Words </a:t>
            </a:r>
            <a:br>
              <a:rPr sz="2400"/>
            </a:br>
            <a:r>
              <a:rPr b="0" lang="en-US" sz="2400" spc="-1" strike="noStrike">
                <a:solidFill>
                  <a:srgbClr val="ff99cc"/>
                </a:solidFill>
                <a:latin typeface="Verdana"/>
              </a:rPr>
              <a:t>present, favorite, aunt, bank, collects, basket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52120" y="175212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Put your trash in the __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Put your trash in the bask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Another word for a gift is a 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Another word for a gift is a pres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 opposite of gives away is 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The opposite of gives away is colle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676160" y="228600"/>
            <a:ext cx="746748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that was my favurite presen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Verdana"/>
              </a:rPr>
              <a:t>That was my favorite presen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i use a basket to collekt.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Verdana"/>
              </a:rPr>
              <a:t>I use a basket to collec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Online Directori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10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 Internet offers lots of in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yping your problem or question into an online directory often leads to lists of possible links to find that inform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ording your search correctly will help you locate the information more quick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80720" y="2133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Verdana"/>
              </a:rPr>
              <a:t>Wrap Up Your Day!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22860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Let’s Talk Abou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Verdana"/>
              </a:rPr>
              <a:t>Tradition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39152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riday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3623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rite about a tradition 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n your family.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76360" y="1519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Verdana"/>
              </a:rPr>
              <a:t>Review Games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 Narrow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Arcade Gam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Jig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Match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Speed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Wordsear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Word We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Spelling City: Amaz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Spelling City:</a:t>
            </a:r>
            <a:r>
              <a:rPr b="1" lang="en-US" sz="3200" spc="-1" strike="noStrike">
                <a:solidFill>
                  <a:srgbClr val="ffffcc"/>
                </a:solidFill>
                <a:latin typeface="Arial Narrow"/>
                <a:ea typeface="Arial"/>
              </a:rPr>
              <a:t> Vocabul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171840" y="1294920"/>
            <a:ext cx="2971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 Narrow"/>
                <a:ea typeface="Times New Roman"/>
              </a:rPr>
              <a:t>Spelling Word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Speed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Word We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Quia Ga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Spelling C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 Narrow"/>
                <a:ea typeface="Times New Roman"/>
              </a:rPr>
              <a:t>High Frequency Wo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Spelling C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APTPlus Video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(password required)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133720" y="160020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Mexico’s Day of the Dead: Elementary Spanish: Grades One through Two: Unit Seven, Lesson Two (20:55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There's No Food Like My Food: Rosita in Mexico (13:00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Birthday Celebrations and Quinceañera (01:46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Family Tradition"/>
          <p:cNvPicPr/>
          <p:nvPr/>
        </p:nvPicPr>
        <p:blipFill>
          <a:blip r:embed="rId1"/>
          <a:srcRect l="0" t="0" r="0" b="8857"/>
          <a:stretch/>
        </p:blipFill>
        <p:spPr>
          <a:xfrm>
            <a:off x="3886200" y="457200"/>
            <a:ext cx="4800600" cy="59007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1905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Listen to a song about family traditions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59056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  <a:ea typeface="Arial"/>
              </a:rPr>
              <a:t>Quiz # 90461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and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You studied words like this already.  What do you know about reading this word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Today we’ll learn about syllables </a:t>
            </a:r>
            <a:r>
              <a:rPr b="0" i="1" lang="en-US" sz="3200" spc="-1" strike="noStrike">
                <a:solidFill>
                  <a:srgbClr val="ff99cc"/>
                </a:solidFill>
                <a:latin typeface="Verdana"/>
                <a:ea typeface="Arial"/>
              </a:rPr>
              <a:t>–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and </a:t>
            </a:r>
            <a:r>
              <a:rPr b="0" i="1" lang="en-US" sz="3200" spc="-1" strike="noStrike">
                <a:solidFill>
                  <a:srgbClr val="ff99cc"/>
                </a:solidFill>
                <a:latin typeface="Verdana"/>
                <a:ea typeface="Arial"/>
              </a:rPr>
              <a:t>–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tur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The letters </a:t>
            </a:r>
            <a:r>
              <a:rPr b="0" i="1" lang="en-US" sz="3200" spc="-1" strike="noStrike">
                <a:solidFill>
                  <a:srgbClr val="ff99cc"/>
                </a:solidFill>
                <a:latin typeface="Verdana"/>
                <a:ea typeface="Arial"/>
              </a:rPr>
              <a:t>–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and </a:t>
            </a:r>
            <a:r>
              <a:rPr b="0" i="1" lang="en-US" sz="3200" spc="-1" strike="noStrike">
                <a:solidFill>
                  <a:srgbClr val="ff99cc"/>
                </a:solidFill>
                <a:latin typeface="Verdana"/>
                <a:ea typeface="Arial"/>
              </a:rPr>
              <a:t>–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tur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stand for the /shen/ and /cher/ soun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na 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Read each chunk, or syllable, from left to right and then blend them to read the whole wor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Remember that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–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stands for /shen/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740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99"/>
                </a:solidFill>
                <a:latin typeface="Verdana"/>
              </a:rPr>
              <a:t>Small Group</a:t>
            </a:r>
            <a:r>
              <a:rPr b="1" lang="en-US" sz="6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6600" spc="-1" strike="noStrike" u="sng">
                <a:solidFill>
                  <a:srgbClr val="ff99cc"/>
                </a:solidFill>
                <a:uFillTx/>
                <a:latin typeface="Verdana"/>
                <a:hlinkClick r:id="rId1"/>
              </a:rPr>
              <a:t>Timer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00040" y="15998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fu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se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lo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cau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fe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fr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cre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endParaRPr b="0" lang="en-US" sz="5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p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p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p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p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en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p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en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p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en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ic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76360" y="-3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Verdana"/>
              </a:rPr>
              <a:t>Review Games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520" y="99072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1"/>
              </a:rPr>
              <a:t>Arcade Gam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7"/>
              </a:rPr>
              <a:t>Spelling City: Amaz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8"/>
              </a:rPr>
              <a:t>Spelling City: Vocabul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171840" y="1066680"/>
            <a:ext cx="2971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Spelling Word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High Frequency Wo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13"/>
              </a:rPr>
              <a:t>Spelling C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p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en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ic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666880" y="1523880"/>
          <a:ext cx="5639040" cy="505944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p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en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ic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or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po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aution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culp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mois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pic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r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au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lectu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38320" y="16765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re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n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u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rac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352680" y="1828800"/>
          <a:ext cx="3733920" cy="393228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o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he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ith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know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438280" y="1371600"/>
          <a:ext cx="5943600" cy="467532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         fix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ion          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ection          n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ture            fe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cture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furni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ction  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dven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ution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tui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Draw Conclusions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Summariz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Recall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</a:rPr>
              <a:t>Red, White, and Blu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How might the astronauts have felt when they landed on the mo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Draw Conclusions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Summariz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Verdana"/>
              </a:rPr>
              <a:t>Drawing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</a:rPr>
              <a:t>conclusion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means figuring out something about a  character or an ev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Good readers use what they know about real life and what they have read to help them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</a:rPr>
              <a:t>draw</a:t>
            </a: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</a:rPr>
              <a:t>conclusion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Good readers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</a:rPr>
              <a:t>summariz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what they read.  This helps them make sure they understand the tex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Student Pages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447920" y="152280"/>
            <a:ext cx="7696080" cy="731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my favorit aunt collects baskets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Verdana"/>
              </a:rPr>
              <a:t>My favorite aunt collects basket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where are we meeting?  she aske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Verdana"/>
              </a:rPr>
              <a:t>“</a:t>
            </a:r>
            <a:r>
              <a:rPr b="1" lang="en-US" sz="4400" spc="-1" strike="noStrike">
                <a:solidFill>
                  <a:srgbClr val="ff3399"/>
                </a:solidFill>
                <a:latin typeface="Verdana"/>
              </a:rPr>
              <a:t>Where are we meeting?” she aske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Using 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04760" y="114300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0cf"/>
                </a:solidFill>
                <a:latin typeface="Verdana"/>
              </a:rPr>
              <a:t>Comma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are used in </a:t>
            </a:r>
            <a:r>
              <a:rPr b="1" lang="en-US" sz="3200" spc="-1" strike="noStrike">
                <a:solidFill>
                  <a:srgbClr val="ff70cf"/>
                </a:solidFill>
                <a:latin typeface="Verdana"/>
              </a:rPr>
              <a:t>addresse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 Commas should be placed between the names of cities and stat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in </a:t>
            </a:r>
            <a:r>
              <a:rPr b="1" lang="en-US" sz="3200" spc="-1" strike="noStrike">
                <a:solidFill>
                  <a:srgbClr val="ff70cf"/>
                </a:solidFill>
                <a:latin typeface="Verdana"/>
              </a:rPr>
              <a:t>date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after the </a:t>
            </a:r>
            <a:r>
              <a:rPr b="1" lang="en-US" sz="3200" spc="-1" strike="noStrike">
                <a:solidFill>
                  <a:srgbClr val="ff70cf"/>
                </a:solidFill>
                <a:latin typeface="Verdana"/>
              </a:rPr>
              <a:t>greeting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70cf"/>
                </a:solidFill>
                <a:latin typeface="Verdana"/>
              </a:rPr>
              <a:t>closing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in a let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to separate three or more things in a </a:t>
            </a:r>
            <a:r>
              <a:rPr b="1" lang="en-US" sz="3200" spc="-1" strike="noStrike">
                <a:solidFill>
                  <a:srgbClr val="ff70cf"/>
                </a:solidFill>
                <a:latin typeface="Verdana"/>
              </a:rPr>
              <a:t>lis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971800" y="1066680"/>
          <a:ext cx="4648320" cy="5321520"/>
        </p:xfrm>
        <a:graphic>
          <a:graphicData uri="http://schemas.openxmlformats.org/drawingml/2006/table">
            <a:tbl>
              <a:tblPr/>
              <a:tblGrid>
                <a:gridCol w="4648320"/>
              </a:tblGrid>
              <a:tr h="53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mazing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elebratio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ustom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raditio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nspec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ngl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rillia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napsho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Using 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Commas are used in addresses.  They separated the city and the stat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212 Oak La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Tucson, Arizona 8574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Using 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Commas are used in dates. They separate the date and the yea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January 31, 192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Tuesday, June 1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Using 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after the greeting in a let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Dear Anna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after the closing in a let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Love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Using 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to separate three or more things in a li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Krystal wrote to Anna, Paul, and Aunt Be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Using Commas</a:t>
            </a:r>
            <a:br>
              <a:rPr sz="4000"/>
            </a:br>
            <a:r>
              <a:rPr b="1" lang="en-US" sz="2400" spc="-1" strike="noStrike">
                <a:solidFill>
                  <a:srgbClr val="ff99cc"/>
                </a:solidFill>
                <a:latin typeface="Verdana"/>
              </a:rPr>
              <a:t>Add commas where they are needed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05120" y="152352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124 Maple Str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yracuse New York 132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June 24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Dear Ja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I am at my grandparents’ ranch in Colorado.  We come here every June.  We swim fish and hike.  I see all my cousins aunts and uncles.  It is great.  See you s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Your frie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Using Commas</a:t>
            </a:r>
            <a:br>
              <a:rPr sz="4000"/>
            </a:br>
            <a:r>
              <a:rPr b="1" lang="en-US" sz="2400" spc="-1" strike="noStrike">
                <a:solidFill>
                  <a:srgbClr val="ff99cc"/>
                </a:solidFill>
                <a:latin typeface="Verdana"/>
              </a:rPr>
              <a:t>Add commas where they are needed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05120" y="152352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124 Maple Str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yracus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New York 132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June 24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Dear Ja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I am at my grandparents’ ranch in Colorado.  We come here every June.  We swim fish and hike.  I see all my cousins aunts and uncles.  It is great.  See you s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Your frie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Using Commas</a:t>
            </a:r>
            <a:br>
              <a:rPr sz="4000"/>
            </a:br>
            <a:r>
              <a:rPr b="1" lang="en-US" sz="2400" spc="-1" strike="noStrike">
                <a:solidFill>
                  <a:srgbClr val="ff99cc"/>
                </a:solidFill>
                <a:latin typeface="Verdana"/>
              </a:rPr>
              <a:t>Add commas where they are needed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5120" y="152352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124 Maple Str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yracus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New York 132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June 24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Dear Ja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I am at my grandparents’ ranch in Colorado.  We come here every June.  We swim fish and hike.  I see all my cousins aunts and uncles.  It is great.  See you s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Your frie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Using Commas</a:t>
            </a:r>
            <a:br>
              <a:rPr sz="4000"/>
            </a:br>
            <a:r>
              <a:rPr b="1" lang="en-US" sz="2400" spc="-1" strike="noStrike">
                <a:solidFill>
                  <a:srgbClr val="ff99cc"/>
                </a:solidFill>
                <a:latin typeface="Verdana"/>
              </a:rPr>
              <a:t>Add commas where they are needed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5120" y="152352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124 Maple Str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yracus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New York 132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June 24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Dear Jaim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I am at my grandparents’ ranch in Colorado.  We come here every June.  We swim fish and hike.  I see all my cousins aunts and uncles.  It is great.  See you s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Your frie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Using Commas</a:t>
            </a:r>
            <a:br>
              <a:rPr sz="4000"/>
            </a:br>
            <a:r>
              <a:rPr b="1" lang="en-US" sz="2400" spc="-1" strike="noStrike">
                <a:solidFill>
                  <a:srgbClr val="ff99cc"/>
                </a:solidFill>
                <a:latin typeface="Verdana"/>
              </a:rPr>
              <a:t>Add commas where they are needed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05120" y="152352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124 Maple Str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yracus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New York 132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June 24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Dear Jaim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I am at my grandparents’ ranch in Colorado.  We come here every June.  We swim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fish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and hike.  I see all my cousins aunts and uncles.  It is great.  See you s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Your frie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Using Commas</a:t>
            </a:r>
            <a:br>
              <a:rPr sz="4000"/>
            </a:br>
            <a:r>
              <a:rPr b="1" lang="en-US" sz="2400" spc="-1" strike="noStrike">
                <a:solidFill>
                  <a:srgbClr val="ff99cc"/>
                </a:solidFill>
                <a:latin typeface="Verdana"/>
              </a:rPr>
              <a:t>Add commas where they are needed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05120" y="152352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124 Maple Str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yracus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New York 132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June 24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Dear Jaim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I am at my grandparents’ ranch in Colorado.  We come here every June.  We swim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fish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and hike.  I see all my cousin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aunt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and uncles.  It is great.  See you s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Your frie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276720" y="762120"/>
          <a:ext cx="4495680" cy="586728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8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rese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u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ke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ollect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nk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avorit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nat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inetieth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i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Using Commas</a:t>
            </a:r>
            <a:br>
              <a:rPr sz="4000"/>
            </a:br>
            <a:r>
              <a:rPr b="1" lang="en-US" sz="2400" spc="-1" strike="noStrike">
                <a:solidFill>
                  <a:srgbClr val="ff99cc"/>
                </a:solidFill>
                <a:latin typeface="Verdana"/>
              </a:rPr>
              <a:t>Add commas where they are needed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5120" y="152352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124 Maple Str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yracus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New York 132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June 24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Dear Jaim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I am at my grandparents’ ranch in Colorado.  We come here every June.  We swim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fish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and hike.  I see all my cousin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aunt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and uncles.  It is great.  See you s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Your friend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on Syllables </a:t>
            </a:r>
            <a:r>
              <a:rPr b="0" i="1" lang="en-US" sz="3200" spc="-1" strike="noStrike">
                <a:solidFill>
                  <a:srgbClr val="ffffcc"/>
                </a:solidFill>
                <a:latin typeface="Verdana"/>
              </a:rPr>
              <a:t>–tion, -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Draw Conclus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omorrow we will read about a family celebration—a birthday par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39152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Monday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ist fun celebrations.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39152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Tuesday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057400" y="2209680"/>
          <a:ext cx="6781680" cy="409104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40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day we will read a story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bout a girl named Cecilia. She is having a party for her tía. She must decide what gift to give her. Have you ever been to a surprise party?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39152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Tuesday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57400" y="2209680"/>
          <a:ext cx="6781680" cy="409104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40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day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we</a:t>
                      </a: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will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read</a:t>
                      </a: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a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story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bout a girl named Cecilia.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She</a:t>
                      </a: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is having a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party</a:t>
                      </a: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for her tía. She must decide what gift to give her. Have you ever been to a surprise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party</a:t>
                      </a: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361960" y="21337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yllables </a:t>
            </a:r>
            <a:r>
              <a:rPr b="0" i="1" lang="en-US" sz="3200" spc="-1" strike="noStrike">
                <a:solidFill>
                  <a:srgbClr val="ffffcc"/>
                </a:solidFill>
                <a:latin typeface="Verdana"/>
              </a:rPr>
              <a:t>–tion, -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Homony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ntext Cl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971800" y="1066680"/>
          <a:ext cx="4648320" cy="5321520"/>
        </p:xfrm>
        <a:graphic>
          <a:graphicData uri="http://schemas.openxmlformats.org/drawingml/2006/table">
            <a:tbl>
              <a:tblPr/>
              <a:tblGrid>
                <a:gridCol w="4648320"/>
              </a:tblGrid>
              <a:tr h="53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mazing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elebratio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ustom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raditio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nspec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ngl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rillia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napsho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23623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cc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creat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520" y="9140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re – ate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If you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reat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something, you make something that hasn’t been made befo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She likes to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reat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vases from cla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My dad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reate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delicious new recipes for dinn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The new grocery store will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reat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many new jobs for peop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inspec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76520" y="9140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in - spect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inspec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something, you look at it very careful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Mom will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inspec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my room after I clean it to make sure I did a good job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You should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inspec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clothes before you buy them to make sure they are well-ma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00400" y="1143000"/>
          <a:ext cx="4191120" cy="5284800"/>
        </p:xfrm>
        <a:graphic>
          <a:graphicData uri="http://schemas.openxmlformats.org/drawingml/2006/table">
            <a:tbl>
              <a:tblPr/>
              <a:tblGrid>
                <a:gridCol w="4191120"/>
              </a:tblGrid>
              <a:tr h="531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High Frequency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eliev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ugh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inally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day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morrow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atever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ang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520" y="9140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n – gle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The way you look at something is the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ngl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from which you see i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The seats were on the side at a bad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ngl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, so we couldn’t see the screen very we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People look at things from a different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ngl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80720" y="28951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Magda’s Tortilla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68580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mo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 - 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frac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You can read these words because you know how to read words with endings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–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and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–tur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What syllables form moti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What syllables form fractur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When you come to a word with the ending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–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or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–tur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, look at the word and then read i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Phonics Songs and Rhymes Chart 28"/>
          <p:cNvPicPr/>
          <p:nvPr/>
        </p:nvPicPr>
        <p:blipFill>
          <a:blip r:embed="rId1"/>
          <a:srcRect l="0" t="0" r="2786" b="10960"/>
          <a:stretch/>
        </p:blipFill>
        <p:spPr>
          <a:xfrm>
            <a:off x="4495680" y="304920"/>
            <a:ext cx="4419720" cy="6245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28440" y="761760"/>
            <a:ext cx="2514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  <a:ea typeface="Verdana"/>
              </a:rPr>
              <a:t>Listen for words with –tion and –ture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8951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celebr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affe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adventu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furnitu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colle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un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438280" y="1371600"/>
          <a:ext cx="5943600" cy="467532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         fix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ion          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ection          n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ture            fe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cture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furni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ction  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dven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ution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tui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un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un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un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un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vul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un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vul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ffec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un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vul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ffec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un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vul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352680" y="1828800"/>
          <a:ext cx="3733920" cy="393228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o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he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ith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know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438280" y="1371600"/>
          <a:ext cx="5943600" cy="467532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         fix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ion          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ection          n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ture            fe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cture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furni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ction  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dven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ution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tui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e watched a motion picture about an adven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I like this furniture and light fix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re was lots of action at the fire st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352680" y="1828800"/>
          <a:ext cx="3733920" cy="393228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o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he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ith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know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276720" y="762120"/>
          <a:ext cx="4495680" cy="586728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8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rese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u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ke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ollect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nk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avorit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nat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inetieth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i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Vocabulary Wor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04760" y="15235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prese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– a gift; something that someone gives you or that you give someo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au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– your father’s sister, your mother’s sister, or your uncle’s wif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99cc"/>
                </a:solidFill>
                <a:uFillTx/>
                <a:latin typeface="Verdana"/>
                <a:hlinkClick r:id="rId1" action="ppaction://hlinksldjump"/>
              </a:rPr>
              <a:t>baske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– something to carry or store things in; it can be made of straw, plastic, or strips of woo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Arial Narrow"/>
                <a:hlinkClick r:id="rId2" action="ppaction://hlinksldjump"/>
              </a:rPr>
              <a:t>(next slid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99cc"/>
                </a:solidFill>
                <a:uFillTx/>
                <a:latin typeface="Verdana"/>
                <a:hlinkClick r:id="rId1" action="ppaction://hlinksldjump"/>
              </a:rPr>
              <a:t>basket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904760" y="1294920"/>
            <a:ext cx="6933960" cy="5257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garden-vegetable-basket-l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5089680"/>
            <a:ext cx="1676160" cy="1482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Brown_Willow_Laundry_Basket__S_2_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5105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2469_hand_woven_native_american_basket_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05720" y="1295280"/>
            <a:ext cx="2143080" cy="1141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5" descr="bird_design_woven_baske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1295280"/>
            <a:ext cx="1571400" cy="1270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7" descr="Wire_Shopping_Basket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905120" y="1295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9" descr="Plastic_Shopping_Bask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391520" y="510552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1" descr="suet-to-go-suet-basket-with-bird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809880" y="2819520"/>
            <a:ext cx="1600200" cy="1981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3" descr="Cocktail-Party-Gift-Basket-Premium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905120" y="281952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7" descr="Bite%2520Meez%2520Dog%2520Gift%2520Basket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238880" y="2666880"/>
            <a:ext cx="1638360" cy="2210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9" descr="basket1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276720" y="1295280"/>
            <a:ext cx="1752480" cy="1320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1" descr="Maize_Laundry_Basket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638680" y="5105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3" descr="denise-jocks-thistle-basket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562720" y="2819520"/>
            <a:ext cx="153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99cc"/>
                </a:solidFill>
                <a:uFillTx/>
                <a:latin typeface="Verdana"/>
                <a:hlinkClick r:id="rId1" action="ppaction://hlinksldjump"/>
              </a:rPr>
              <a:t>bank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904760" y="1143000"/>
            <a:ext cx="7010280" cy="5410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pt-piggy-bank-pink-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2895480"/>
            <a:ext cx="838440" cy="681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Bank_of_america_tower_sept_200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33720" y="3733920"/>
            <a:ext cx="1885680" cy="2819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ban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905120" y="1143000"/>
            <a:ext cx="2286000" cy="16178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000a503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67080" y="2895480"/>
            <a:ext cx="2314800" cy="1600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5" descr="swiss-federal-bank-zurich-60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495680" y="1143000"/>
            <a:ext cx="2048040" cy="1600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7" descr="bridgeman-safe-deposit-boxes-cutou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419720" y="4686480"/>
            <a:ext cx="2133360" cy="1866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9" descr="025624_e89c5be2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705720" y="3048120"/>
            <a:ext cx="2219040" cy="1668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1" descr="1700261-The_River_Banks_of_Lake_St_Lucia-Lake_Saint_Lucia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781680" y="4952880"/>
            <a:ext cx="2133720" cy="1605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" descr="mitchell_river_bank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705720" y="1143000"/>
            <a:ext cx="220968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 u="sng">
                <a:solidFill>
                  <a:srgbClr val="ff99cc"/>
                </a:solidFill>
                <a:uFillTx/>
                <a:latin typeface="Verdana"/>
                <a:hlinkClick r:id="rId1" action="ppaction://hlinksldjump"/>
              </a:rPr>
              <a:t>pinata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981080" y="114300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5" name="Picture 5" descr="WizardHatPinata1-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1143000"/>
            <a:ext cx="2105280" cy="2104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pinat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1143000"/>
            <a:ext cx="1565280" cy="2133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800px-PI%C3%91AT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057400" y="3429000"/>
            <a:ext cx="2514600" cy="1709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scary-pinata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934320" y="3352680"/>
            <a:ext cx="2000160" cy="1676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pinata1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981080" y="1143000"/>
            <a:ext cx="2819520" cy="2125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5" descr="pinatas-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981080" y="5224320"/>
            <a:ext cx="1371600" cy="1338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7" descr="ghostpinata-main_Full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952880" y="5257800"/>
            <a:ext cx="1181160" cy="1285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9" descr="pinata"/>
          <p:cNvPicPr/>
          <p:nvPr/>
        </p:nvPicPr>
        <p:blipFill>
          <a:blip r:embed="rId16"/>
          <a:stretch/>
        </p:blipFill>
        <p:spPr>
          <a:xfrm>
            <a:off x="6400800" y="5257800"/>
            <a:ext cx="1071720" cy="1295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1" descr="pumpkinpinata_Full"/>
          <p:cNvPicPr/>
          <p:nvPr/>
        </p:nvPicPr>
        <p:blipFill>
          <a:blip r:embed="rId17"/>
          <a:stretch/>
        </p:blipFill>
        <p:spPr>
          <a:xfrm>
            <a:off x="3733920" y="5257800"/>
            <a:ext cx="885600" cy="1285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3" descr="7_25"/>
          <p:cNvPicPr/>
          <p:nvPr/>
        </p:nvPicPr>
        <p:blipFill>
          <a:blip r:embed="rId18"/>
          <a:stretch/>
        </p:blipFill>
        <p:spPr>
          <a:xfrm>
            <a:off x="7624800" y="5257800"/>
            <a:ext cx="1271520" cy="1305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6" descr="pinata300x315"/>
          <p:cNvPicPr/>
          <p:nvPr/>
        </p:nvPicPr>
        <p:blipFill>
          <a:blip r:embed="rId19"/>
          <a:stretch/>
        </p:blipFill>
        <p:spPr>
          <a:xfrm>
            <a:off x="4952880" y="3352680"/>
            <a:ext cx="16351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Vocabulary Wor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04760" y="15235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collect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– bring things together or gather them togeth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bank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– a place where people keep their mon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favorit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– the thing you like better than all the oth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Vocabulary Wor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04760" y="15235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pinata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- a decorated container filled with candy and toys that is hung at parties for blindfolded people to break open with a sti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ninetieth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– next after the 89</a:t>
            </a:r>
            <a:r>
              <a:rPr b="0" lang="en-US" sz="3200" spc="-1" strike="noStrike" baseline="30000">
                <a:solidFill>
                  <a:srgbClr val="ffffcc"/>
                </a:solidFill>
                <a:latin typeface="Verdana"/>
              </a:rPr>
              <a:t>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tia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– Spanish word for au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Vocabulary Wor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presen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birthda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aun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oda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baske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do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collect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fami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bank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laug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favorit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Context Clu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828440" y="144792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re are strategies when you come across words you don’t understa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You can look in a dictionary or glossar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Context Clu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52120" y="99036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ometimes we can get the meaning from word parts.  You may understand the base word and prefix (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</a:rPr>
              <a:t>unmade, not mad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) or two shorter words in a compound (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</a:rPr>
              <a:t>snowman, a man made of snow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You can look for context clues in the words and sentences around the unknown wor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oday we will learn more about using context clu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g Question: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Why are family celebrations special?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0920" y="2666880"/>
            <a:ext cx="5187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Verdan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Verdan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Verdan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Verdan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Verdan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5" descr="Student Pages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523520" y="228600"/>
            <a:ext cx="7620120" cy="693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jordan colects baseball car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Verdana"/>
              </a:rPr>
              <a:t>Jordan collects baseball card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my favrite aunt sall flower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Verdana"/>
              </a:rPr>
              <a:t>My favorite aunt sells flower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Using 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04760" y="114300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27ba"/>
                </a:solidFill>
                <a:latin typeface="Verdana"/>
              </a:rPr>
              <a:t>Comma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are used in </a:t>
            </a:r>
            <a:r>
              <a:rPr b="1" lang="en-US" sz="3200" spc="-1" strike="noStrike">
                <a:solidFill>
                  <a:srgbClr val="ff27ba"/>
                </a:solidFill>
                <a:latin typeface="Verdana"/>
              </a:rPr>
              <a:t>addresse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 Commas should be placed between the names of cities and stat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in </a:t>
            </a:r>
            <a:r>
              <a:rPr b="1" lang="en-US" sz="3200" spc="-1" strike="noStrike">
                <a:solidFill>
                  <a:srgbClr val="ff27ba"/>
                </a:solidFill>
                <a:latin typeface="Verdana"/>
              </a:rPr>
              <a:t>date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after the </a:t>
            </a:r>
            <a:r>
              <a:rPr b="1" lang="en-US" sz="3200" spc="-1" strike="noStrike">
                <a:solidFill>
                  <a:srgbClr val="ff27ba"/>
                </a:solidFill>
                <a:latin typeface="Verdana"/>
              </a:rPr>
              <a:t>greeting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27ba"/>
                </a:solidFill>
                <a:latin typeface="Verdana"/>
              </a:rPr>
              <a:t>closing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in a let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to separate three or more things in a </a:t>
            </a:r>
            <a:r>
              <a:rPr b="1" lang="en-US" sz="3200" spc="-1" strike="noStrike">
                <a:solidFill>
                  <a:srgbClr val="ff27ba"/>
                </a:solidFill>
                <a:latin typeface="Verdana"/>
              </a:rPr>
              <a:t>lis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Lesson Vocabul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ummari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omorrow we will read about another special birthday celebr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5708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Tuesday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3623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rite about a special birthday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.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739152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ednesday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981080" y="2133720"/>
          <a:ext cx="6782040" cy="4078080"/>
        </p:xfrm>
        <a:graphic>
          <a:graphicData uri="http://schemas.openxmlformats.org/drawingml/2006/table">
            <a:tbl>
              <a:tblPr/>
              <a:tblGrid>
                <a:gridCol w="6782040"/>
              </a:tblGrid>
              <a:tr h="40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e will read about Magda again today. Magda is helpful in the kitchen.  Magda works slowly, </a:t>
                      </a:r>
                      <a:br>
                        <a:rPr sz="2800"/>
                      </a:b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ile Abuela works quickly. </a:t>
                      </a:r>
                      <a:br>
                        <a:rPr sz="2800"/>
                      </a:b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agda may not make her tortillas perfectly round, but people like them. What would you like to learn how to make?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739152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ednesday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981080" y="2133720"/>
          <a:ext cx="6782040" cy="4078080"/>
        </p:xfrm>
        <a:graphic>
          <a:graphicData uri="http://schemas.openxmlformats.org/drawingml/2006/table">
            <a:tbl>
              <a:tblPr/>
              <a:tblGrid>
                <a:gridCol w="6782040"/>
              </a:tblGrid>
              <a:tr h="40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e will read about Magda again today. Magda is </a:t>
                      </a:r>
                      <a:r>
                        <a:rPr b="1" i="1" lang="en-US" sz="2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helpful</a:t>
                      </a: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in the kitchen.  Magda works </a:t>
                      </a:r>
                      <a:r>
                        <a:rPr b="1" i="1" lang="en-US" sz="2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slowly</a:t>
                      </a: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, </a:t>
                      </a:r>
                      <a:br>
                        <a:rPr sz="2800"/>
                      </a:b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ile Abuela works </a:t>
                      </a:r>
                      <a:r>
                        <a:rPr b="1" i="1" lang="en-US" sz="2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quickly</a:t>
                      </a: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. </a:t>
                      </a:r>
                      <a:br>
                        <a:rPr sz="2800"/>
                      </a:b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agda may not make her tortillas </a:t>
                      </a:r>
                      <a:r>
                        <a:rPr b="1" i="1" lang="en-US" sz="2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perfectly</a:t>
                      </a: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round, but people like them. What would you like to learn how to make?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Base Words and End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yllables </a:t>
            </a:r>
            <a:r>
              <a:rPr b="0" i="1" lang="en-US" sz="3200" spc="-1" strike="noStrike">
                <a:solidFill>
                  <a:srgbClr val="ffffcc"/>
                </a:solidFill>
                <a:latin typeface="Verdana"/>
              </a:rPr>
              <a:t>–tion, -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ords from Other Languag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Gramm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23623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cc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brillia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676520" y="9140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bril – liant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If something is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brillia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, it is very bright and sparkl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The diamond ring was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brillia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The colored lights in the night parade were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brillia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The stars are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brillia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tonigh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1-04-24T01:36:25Z</dcterms:modified>
  <cp:revision>45</cp:revision>
  <dc:subject/>
  <dc:title>Slide 1</dc:title>
</cp:coreProperties>
</file>